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6980238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0709-4023-444E-9738-0FAF66549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C419-95C8-4EEF-81C4-804BDBB2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EC43D24-E838-44C8-B714-E3F0E9965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AC2B88-633F-4EAC-BD12-1FBDC8048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FF834ED-038B-45D6-9D86-409E7438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4DAB30-824C-4871-A314-CD0FFD77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B1D63A-70C4-486B-8E88-E35F57589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4C7414-AFE9-4567-A074-29AFBDC6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5C5FC0-B934-4D9F-88DA-7D08A3EA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1B3B456-2888-4EE1-BB98-BAFED244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839C90B-4966-415D-9D54-B03A5BF99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0C3B-095E-4577-AE5A-90C4E79D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00ED-0DFE-4C22-BCEC-8BD7A18B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D959-E7FF-440E-92D1-6E846A632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A5ED-3BC2-4E88-82FC-B9C2E7CB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3FBEEC-2CB3-4DBD-BE11-A68622A4B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729D70-8001-4C67-897D-A6D69B663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983A16-CEB6-44F1-8918-0DE7AC23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B6DE-0DDE-43BC-9D37-13E30F1F1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49C173-FD7E-4AAF-9E82-6FE28328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221DDD3-F99C-4EC1-AADD-1F77A1EEC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04841F-8182-425B-B613-DFB42302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35C80F-7ED3-43CB-A143-53B683B5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3B83914-932C-4C42-A77A-359CF3EA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C14A5B-79ED-4A85-9117-E868E6EF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36668D-1DEB-47D4-A95D-FB6D178B9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7BE81B-5809-448D-9905-4126A7A2F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F6A2FC-4970-4083-95AE-AC37DFECF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75005D0-7CB1-471B-AE99-C9EC291E2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867C-C974-4E4A-80C1-A7872FBFA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348076-787A-4586-858B-02787EC3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3E3A81-4130-470D-8122-B399C1B6B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6DEB14-F434-4468-B0E7-DD8611578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01B041-6A73-4B51-B6B7-09719C1EF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893642-E29F-4FCF-88E1-B0DF29F40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F40F55D-05B2-4024-8A68-8CCACA82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CC6E7A-B7A4-47F9-9C41-C12AFC7E3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F5ECEB-DBF0-40BF-83D0-953388BA5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83FD13-40F2-4D49-B015-E7A0947C4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AC125B-8BD9-49D6-91CA-2A87462D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EA05-2F1A-4814-B03A-B46582D1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319974A-E3DC-4D31-B305-9261D532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000EE14-7D73-4EC4-929C-D7D2D66D2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174283-7F37-421A-B46D-7981B55D4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220D3CF-0703-47B4-9BEC-BF0E9A98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7C5E5A-B738-4EF8-A4AC-2CB6CB07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71AD1B6-F29E-41C4-97A0-DBFA3061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28D9D99-50FE-47CE-8E55-EEAB8E540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8B4EAE-DB98-4023-BE9D-997F5C61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224FA2-85E6-42B4-8DCA-F350AEBA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3E561F-22AC-4176-9939-E5013D3A1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2638-544B-46FB-8A2C-CE348A70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AD84B76-E964-45C4-AAF9-3428C743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6CC575-A381-4062-9DBA-7E2A5A15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35E515-8549-41F0-90DE-D41301FFE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2EE5BAE-D0F2-4138-9001-58BEE3A74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36C2B07-0B99-49BF-9EDF-06A7DD441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8585CF4-AAD7-458C-AAA0-333DB7082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4419DE-84C3-495A-B79A-83ECA77FF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69C7410-E53E-47A3-98DE-275B30D1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F7CD15E-8142-4B2B-8D1C-3AE30C7E7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076FA2C-3CD1-4517-90C2-52084EC8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7F12-36BA-4ABF-9368-CBFED852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94D1F01-0176-4A34-A50C-E98088EA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ADD882-08FC-4733-ABA8-2FD41CCA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89B91C9-0D85-4864-BBFF-02716F13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4FD0473-2EC6-4CA3-92D0-1015380C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E64F481-373A-4C0D-9BCA-716397A21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81127FD-3179-4C26-BF49-4CA0AC759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7A63765-EB58-4B5E-A205-CDFC0DB2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0EDAB1-EF8A-4AFF-9962-33A4FEB36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B5D8646-AC21-4E1D-84AB-8F068F4A5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0CCB215-6650-411A-A002-38285808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4FE6-CC6F-4C17-A668-6ABBF206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764640" y="79200"/>
            <a:ext cx="7612200" cy="657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71DB52-8B80-4FA8-8C7F-83CA71431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71CD2E-5391-452D-9330-B42BB34A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1A61A3-AAF2-462E-8BB5-419D51A2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B587DE-7330-4B65-BE27-F4F7B36F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64640" y="4255200"/>
            <a:ext cx="761220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9E147C3-4EB9-4291-954F-74717B7B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5240" y="20700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7646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65240" y="4255200"/>
            <a:ext cx="37144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F1A61D8-F6B5-4D78-8030-1FD6ED6BA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338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912280" y="20700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76464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338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5912280" y="4255200"/>
            <a:ext cx="2450880" cy="199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772D2AA-2F7F-4A86-96D6-C348DA1D6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D63A9F0-C134-4DB7-A78C-8A18A39E6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F7148C-B5CD-45FB-BCB4-48849AED2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3AE0FC3-5D7E-49D3-941E-03397B47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CEC3B-E6F3-4E0D-90F7-846667F0C7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7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9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10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8AE68-FCE7-4795-8A66-9AB99DE80D2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2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817BB-43F5-48A0-A04E-FE515E5D67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14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 type="ftr" idx="1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 type="sldNum" idx="16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0903-D440-449F-8A23-605FC3E4FB5B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8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935E0-38A2-4D0C-B62F-7727990229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dt" idx="20"/>
          </p:nvPr>
        </p:nvSpPr>
        <p:spPr>
          <a:xfrm>
            <a:off x="4495320" y="6356520"/>
            <a:ext cx="1143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 type="ftr" idx="21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 type="sldNum" idx="22"/>
          </p:nvPr>
        </p:nvSpPr>
        <p:spPr>
          <a:xfrm>
            <a:off x="1966680" y="6356520"/>
            <a:ext cx="533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9443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1A67-F7F6-4AD8-8FAB-BF41F8FE3FBD}" type="slidenum">
              <a:rPr b="0" lang="en-US" sz="1200" spc="-1" strike="noStrike">
                <a:solidFill>
                  <a:srgbClr val="19443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Click to edit the title text format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2" marL="10350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3" marL="1371600" indent="-336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4" marL="1720800" indent="-349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5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6" marL="1720800" indent="-3492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dt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 type="ftr" idx="24"/>
          </p:nvPr>
        </p:nvSpPr>
        <p:spPr>
          <a:xfrm>
            <a:off x="44424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 type="sldNum" idx="2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2C567-DBCB-4DA6-B0BE-40D26BFA1A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93560" y="3776400"/>
            <a:ext cx="7196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194431"/>
                </a:solidFill>
                <a:latin typeface="Book Antiqua"/>
              </a:rPr>
              <a:t>Le pronom « en »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493560" y="5257440"/>
            <a:ext cx="7196400" cy="98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194431"/>
                </a:solidFill>
                <a:latin typeface="Book Antiqua"/>
              </a:rPr>
              <a:t>Révision: p60-61 dans le cahier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6" name="Rectangle 2"/>
          <p:cNvSpPr/>
          <p:nvPr/>
        </p:nvSpPr>
        <p:spPr>
          <a:xfrm>
            <a:off x="504720" y="1828800"/>
            <a:ext cx="776628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Vous ne mettez pas de la mayonnaise sur vos sandwich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1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2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3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8" name="Rectangle 2"/>
          <p:cNvSpPr/>
          <p:nvPr/>
        </p:nvSpPr>
        <p:spPr>
          <a:xfrm>
            <a:off x="314280" y="1814400"/>
            <a:ext cx="8515440" cy="37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Elle veut mettre du fromage sur son hamburger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1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2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3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0" name="Rectangle 2"/>
          <p:cNvSpPr/>
          <p:nvPr/>
        </p:nvSpPr>
        <p:spPr>
          <a:xfrm>
            <a:off x="299880" y="1882800"/>
            <a:ext cx="884412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Martin et Daniel ne veulent pas mettre de l’ananas sur leurs coupes glacée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1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2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3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BIG RULE: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Always put “EN” before the </a:t>
            </a:r>
            <a:r>
              <a:rPr b="1" lang="en-US" sz="5400" spc="-1" strike="noStrike" u="sng">
                <a:solidFill>
                  <a:srgbClr val="ffffff"/>
                </a:solidFill>
                <a:uFillTx/>
                <a:latin typeface="Book Antiqua"/>
              </a:rPr>
              <a:t>LAST VERB</a:t>
            </a:r>
            <a:r>
              <a:rPr b="0" lang="en-US" sz="5400" spc="-1" strike="noStrike">
                <a:solidFill>
                  <a:srgbClr val="ffffff"/>
                </a:solidFill>
                <a:latin typeface="Book Antiqua"/>
              </a:rPr>
              <a:t> in the sentence!!!!</a:t>
            </a:r>
            <a:endParaRPr b="0" lang="en-US" sz="5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ircl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Verbes for Duotang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5000" y="1687320"/>
            <a:ext cx="36576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Boir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drink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65000" y="2649240"/>
            <a:ext cx="36576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u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/Elle/On/Qui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uvo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uvez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s/Elle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boive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19600" y="1687320"/>
            <a:ext cx="36576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ettr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pu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719600" y="2649240"/>
            <a:ext cx="3657600" cy="360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Je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Tu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/Elle/On/Qui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N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tons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Vou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tez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  <a:p>
            <a:pPr marL="332640" indent="-33264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Ils/Elles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Book Antiqua"/>
              </a:rPr>
              <a:t>           </a:t>
            </a:r>
            <a:r>
              <a:rPr b="1" lang="en-US" sz="2000" spc="-1" strike="noStrike">
                <a:solidFill>
                  <a:srgbClr val="ffffff"/>
                </a:solidFill>
                <a:latin typeface="Book Antiqua"/>
              </a:rPr>
              <a:t>mettent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194431"/>
                </a:solidFill>
                <a:latin typeface="Book Antiqua"/>
              </a:rPr>
              <a:t>Quel est le sens en anglais de « en » ?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Book Antiqua"/>
              </a:rPr>
              <a:t>« en » veut dire « ___________ » en anglais</a:t>
            </a:r>
            <a:endParaRPr b="0" lang="en-US" sz="4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Qu’est-ce que je fais?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764640" y="2070000"/>
            <a:ext cx="761220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Book Antiqua"/>
              </a:rPr>
              <a:t>Les mêmes instructions que quand on a utilisé </a:t>
            </a:r>
            <a:r>
              <a:rPr b="1" lang="fr-CA" sz="2800" spc="-1" strike="noStrike" u="sng">
                <a:solidFill>
                  <a:srgbClr val="ffffff"/>
                </a:solidFill>
                <a:uFillTx/>
                <a:latin typeface="Book Antiqua"/>
              </a:rPr>
              <a:t>le pronom « y »</a:t>
            </a:r>
            <a:r>
              <a:rPr b="0" lang="fr-CA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Book Antiqua"/>
              </a:rPr>
              <a:t>Maintenant, nous cherchons ______________________________________ pour éliminer dans la phrase, </a:t>
            </a:r>
            <a:br>
              <a:rPr sz="2800"/>
            </a:br>
            <a:r>
              <a:rPr b="0" lang="fr-CA" sz="2800" spc="-1" strike="noStrike">
                <a:solidFill>
                  <a:srgbClr val="ffffff"/>
                </a:solidFill>
                <a:latin typeface="Book Antiqua"/>
              </a:rPr>
              <a:t>pas </a:t>
            </a:r>
            <a:r>
              <a:rPr b="1" lang="fr-CA" sz="2800" spc="-1" strike="noStrike" u="sng">
                <a:solidFill>
                  <a:srgbClr val="ffffff"/>
                </a:solidFill>
                <a:uFillTx/>
                <a:latin typeface="Book Antiqua"/>
              </a:rPr>
              <a:t>À + PLACE</a:t>
            </a:r>
            <a:r>
              <a:rPr b="0" lang="fr-CA" sz="2800" spc="-1" strike="noStrike">
                <a:solidFill>
                  <a:srgbClr val="ffffff"/>
                </a:solidFill>
                <a:latin typeface="Book Antiqua"/>
              </a:rPr>
              <a:t> 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push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 Verbe - Posi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veut des tomates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Replacing : 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Où est-ce que je place « en » dans la phras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TOUJOURS avant ____________________________ dans la phras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Verbe: 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Élimine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r>
              <a:rPr b="1" lang="fr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and mets « en » devant le </a:t>
            </a:r>
            <a:r>
              <a:rPr b="0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rnier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 verbe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_________________________________________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hecker dir="horz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3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3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1 Verbe - Néga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ne veut pas des tomates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Replacing: ____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Où est-ce que je place « en » dans la phras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TOUJOURS avant ____________________________ dans la phras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Verbe: 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Élimine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r>
              <a:rPr b="1" lang="fr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and mets « en » devant le </a:t>
            </a:r>
            <a:r>
              <a:rPr b="0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rnier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 verbe: N’OUBLIE PAS :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__________________________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__________________________________________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dissolv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3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3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3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2 Verbes - Posi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0" y="1711440"/>
            <a:ext cx="9144000" cy="51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veut mettre de la laitue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Replacing: ____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Où est-ce que je place « en » dans la phras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TOUJOURS avant ____________________________ dans la phras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Verbe: 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Élimine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r>
              <a:rPr b="1" lang="fr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and mets « en » devant le </a:t>
            </a:r>
            <a:r>
              <a:rPr b="0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rnier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 verbe: ______________________________________________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___________________________________________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cover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9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2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7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3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3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3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2 Verbes - Négatif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0" y="1693440"/>
            <a:ext cx="91440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Il ne veut pas mettre des tomates dans sa salade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Always replacing ____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Replacing: ______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Où est-ce que je place « en » dans la phrase?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TOUJOURS avant ____________________________ dans la phrase!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ffffff"/>
                </a:solidFill>
                <a:latin typeface="Book Antiqua"/>
              </a:rPr>
              <a:t>Verbe: 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Élimine </a:t>
            </a:r>
            <a:r>
              <a:rPr b="1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 + WORD</a:t>
            </a:r>
            <a:r>
              <a:rPr b="1" lang="fr-CA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and mets « en » devant le </a:t>
            </a:r>
            <a:r>
              <a:rPr b="0" lang="fr-CA" sz="2400" spc="-1" strike="noStrike" u="sng">
                <a:solidFill>
                  <a:srgbClr val="ffffff"/>
                </a:solidFill>
                <a:uFillTx/>
                <a:latin typeface="Book Antiqua"/>
              </a:rPr>
              <a:t>dernier</a:t>
            </a:r>
            <a:r>
              <a:rPr b="0" lang="fr-CA" sz="2400" spc="-1" strike="noStrike">
                <a:solidFill>
                  <a:srgbClr val="ffffff"/>
                </a:solidFill>
                <a:latin typeface="Book Antiqua"/>
              </a:rPr>
              <a:t> verbe: __________________________________________: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685800" indent="-336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ffffff"/>
                </a:solidFill>
                <a:latin typeface="Book Antiqua"/>
              </a:rPr>
              <a:t>_________________________________________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343080" indent="-34308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pull dir="l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0" dur="10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5" dur="100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8" dur="10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1000"/>
                                        <p:tgtEl>
                                          <p:spTgt spid="3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6" dur="10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9" dur="10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4" dur="10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9" dur="10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How do I do this?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90080" y="2019240"/>
            <a:ext cx="8953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Cross out the DE + WORD in your sentence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Replace it with “en”.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Put “en”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before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1 verb 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between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the </a:t>
            </a:r>
            <a:r>
              <a:rPr b="0" i="1" lang="en-US" sz="2400" spc="-1" strike="noStrike">
                <a:solidFill>
                  <a:srgbClr val="ffffff"/>
                </a:solidFill>
                <a:latin typeface="Book Antiqua"/>
              </a:rPr>
              <a:t>2 verbs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Book Antiqua"/>
              </a:rPr>
              <a:t>REMEMBER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: There could be ONE verb or TWO verbs!!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00280" indent="-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Book Antiqua"/>
              </a:rPr>
              <a:t>If there are TWO verbs, _________________________________________________________</a:t>
            </a: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457200" indent="-4572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Book Antiqua"/>
              <a:buChar char="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p:transition spd="slow">
    <p:randomBar dir="vert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9" dur="500"/>
                                        <p:tgtEl>
                                          <p:spTgt spid="3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64640" y="79200"/>
            <a:ext cx="761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94431"/>
                </a:solidFill>
                <a:latin typeface="Book Antiqua"/>
              </a:rPr>
              <a:t>Exemples</a:t>
            </a:r>
            <a:endParaRPr b="0" lang="en-US" sz="4800" spc="-1" strike="noStrike">
              <a:solidFill>
                <a:srgbClr val="194431"/>
              </a:solidFill>
              <a:latin typeface="Book Antiqua"/>
            </a:endParaRPr>
          </a:p>
        </p:txBody>
      </p:sp>
      <p:sp>
        <p:nvSpPr>
          <p:cNvPr id="384" name="TextBox 14"/>
          <p:cNvSpPr/>
          <p:nvPr/>
        </p:nvSpPr>
        <p:spPr>
          <a:xfrm>
            <a:off x="423720" y="1870200"/>
            <a:ext cx="829656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Tu mets du ketchup sur tes frites.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1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2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3)</a:t>
            </a:r>
            <a:endParaRPr b="0" lang="en-US" sz="30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split dir="out" orient="ver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9T15:50:51Z</dcterms:created>
  <dc:creator>Sarah</dc:creator>
  <dc:description/>
  <dc:language>en-US</dc:language>
  <cp:lastModifiedBy>Biega, Sarah</cp:lastModifiedBy>
  <cp:lastPrinted>2015-04-15T11:19:32Z</cp:lastPrinted>
  <dcterms:modified xsi:type="dcterms:W3CDTF">2015-04-15T11:19:41Z</dcterms:modified>
  <cp:revision>33</cp:revision>
  <dc:subject/>
  <dc:title>Le pronom « en »</dc:title>
</cp:coreProperties>
</file>